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B8F-02DB-4B76-83D3-0E9BCBDF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63BF-4B63-4F79-A4DF-0175A7E8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F0B-CA69-4ABF-8F91-121034D1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7FD-ED92-4EB6-80A2-179F7328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F864-6CBD-4AE5-AC31-8B4C052D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D9D2-F1B4-499A-9159-BC207FF5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4BDC-3B98-449D-80D7-66868626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94FE-E4F0-43DC-84DE-7E56F47E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8D67-9E81-4B00-A535-F5D8DD6E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13CD-2662-4F08-B370-0BF8FAAF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AC50-743C-4460-AD03-7DF9327E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29D-8E48-4097-8F71-DBF05EB1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FD45-E1AF-47EE-8C65-93EF823F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AA3B-0E9C-4A8F-A5D8-38D8B7EC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67DC-C729-415E-9D20-CC175A94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6C02-3185-4664-B7F4-80117DC5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0150-6349-4602-80BD-FCC753E0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620-41C5-4DFB-AFC1-6C607E4E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030-54C8-4AC8-AEFC-34BABB8D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827-4666-4682-8E67-CACE5810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A82-F690-448D-9849-66E161E2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5870-266A-4897-B8C9-FC934E6B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C41-A97A-45BC-BA12-B7EF105C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2F1-C92E-4556-BB17-E6A26D8A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6416-1C09-423D-A14A-5D9B62C772E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2F91-C17B-4EE7-A522-12F4DFCFD45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lded Age Corru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5: Becoming an Industrial Society (1877-19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omas Na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arto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1106640"/>
          <a:ext cx="7620120" cy="544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06640"/>
                    <a:ext cx="7620120" cy="54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omas Na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arto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1077840"/>
          <a:ext cx="8153640" cy="546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77840"/>
                    <a:ext cx="815364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ional Corrup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4920" indent="-3063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hiskey R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candal - President Grant’s administration was accused of setting liquor taxes high &amp; using the funds for Republican Party campaig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4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4920" indent="-3063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edit Mobili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candal - Congressmen received kickbacks for approving federal tax money to help private companies build railroads.  The funds were not supervised &amp; millions were pocketed by the comp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ional Corrup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0240" indent="-3027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-of-contro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poils sy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volved into an undemocratic “pay-to-play” poli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240" indent="-3027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gruntled party supporter assassinated President Garfield after not receiving a government position for his contrib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240" indent="-3027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ndleton A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1883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200" indent="-30132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ed to establis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vil service sys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would staff government with trained, talented professionals hired for qualifications, not political connections or contribu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itical Re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71320" y="1904760"/>
            <a:ext cx="8267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6560" indent="-2923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ormers try to fight corruption with new voting procedures that bring the political process closer to vo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480" indent="-2908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itia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a public petition to propose legislation to represent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480" indent="-2908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ferend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citizens vote to change a current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480" indent="-2908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c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citizens call for a special election to remove politicians in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480" indent="-2908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cret ball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anonymous ballots to reduce voter intim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480" indent="-2908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election of Sen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gns of Chan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red of Gilded Age corruption, even some Republicans (called “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ugw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) supported reform &amp; voted for Democrat candid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erman Antitrust A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1890) signals a rift in the cozy relationship between business &amp; gover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national attempt to outlaw business monopolies that stifled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rly Limits of Re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191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herman Antitrust A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an example of reform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in 1892 to force John D. Rockefeller’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andard O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ust to break up into smaller, more competitive distribution compan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4496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7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herman Antitrust A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limited refor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.S. v. E.C. Knight, Co.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(1895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uled that government could not break up Knight’s sugar refining monopoly because it was a manufacturing, not distribution,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ten used to send federal troops to break up strikes, benefiting wealthy campaign contribu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ties Grow Too Fa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dustrializ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rought large numbers of poor Americans &amp; immigrants to the cities looking for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 cities had a difficult time providing for so many citizens.  The urban poor often turned t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litical machi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hel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olitical Mach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d services to the urban poor in exchange for votes &amp; political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ss Twe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mmany H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tic Party headquarters, NY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d more services than any city government before it.  Grateful citizens would vote for their candidates.  Candidates would then do the bidding of the machine bo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oss Twe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030400" y="1981080"/>
            <a:ext cx="5081760" cy="381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Municipal Corrup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nicipality - town or city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uption - result of political mach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ying votes, bribing judges, black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atron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handing out city jobs or positions of power to political suppor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f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stealing taxpayer money meant for city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omas Na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arto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239920" y="1143000"/>
          <a:ext cx="446724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920" y="1143000"/>
                    <a:ext cx="44672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omas Na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arto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833480" y="990720"/>
          <a:ext cx="5261040" cy="556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990720"/>
                    <a:ext cx="526104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omas Na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arto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943280" y="1066680"/>
          <a:ext cx="5043240" cy="541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066680"/>
                    <a:ext cx="504324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omas Na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arto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133720" y="1066680"/>
          <a:ext cx="487656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8765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31:08Z</dcterms:created>
  <dc:creator>Northwood Highschool</dc:creator>
  <dc:description/>
  <dc:language>en-US</dc:language>
  <cp:lastModifiedBy>Northwood Highschool</cp:lastModifiedBy>
  <dcterms:modified xsi:type="dcterms:W3CDTF">2010-10-08T18:36:05Z</dcterms:modified>
  <cp:revision>3</cp:revision>
  <dc:subject/>
  <dc:title>Gilded Age Corruption</dc:title>
</cp:coreProperties>
</file>